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189C-2D78-45FB-83EF-5FB9387D9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5843-DE24-4C02-BB8F-7F16A933E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t down the types of genre w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734E-F1A3-4B32-B430-9B3C12504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said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D4DD-EDBC-48F5-B422-CDC0B7169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90E8-B69B-41FA-A7EF-1EE915318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B9FA-AC7F-44ED-89FB-5003D9934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24B2-F22A-4F98-81C9-02249F201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C426-9C81-4072-9982-A3D046183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2C9E-B553-4565-B070-09FEDFC8C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9C2A-1469-495C-B918-3E18802F0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6E48-73FA-4FEC-BF13-DB3228845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1"/>
          <p:cNvSpPr/>
          <p:nvPr/>
        </p:nvSpPr>
        <p:spPr>
          <a:xfrm>
            <a:off x="0" y="0"/>
            <a:ext cx="5486400" cy="914400"/>
          </a:xfrm>
          <a:prstGeom prst="rect">
            <a:avLst/>
          </a:prstGeom>
          <a:solidFill>
            <a:srgbClr val="da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9" descr="6835_powerpoint_v2"/>
          <p:cNvPicPr/>
          <p:nvPr/>
        </p:nvPicPr>
        <p:blipFill>
          <a:blip r:embed="rId2"/>
          <a:stretch/>
        </p:blipFill>
        <p:spPr>
          <a:xfrm>
            <a:off x="0" y="0"/>
            <a:ext cx="915516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logos-joint-bw-lowres.jpg"/>
          <p:cNvPicPr/>
          <p:nvPr/>
        </p:nvPicPr>
        <p:blipFill>
          <a:blip r:embed="rId3"/>
          <a:stretch/>
        </p:blipFill>
        <p:spPr>
          <a:xfrm>
            <a:off x="5638680" y="228600"/>
            <a:ext cx="2876760" cy="7272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21"/>
          <p:cNvSpPr/>
          <p:nvPr/>
        </p:nvSpPr>
        <p:spPr>
          <a:xfrm>
            <a:off x="0" y="0"/>
            <a:ext cx="5486400" cy="914400"/>
          </a:xfrm>
          <a:prstGeom prst="rect">
            <a:avLst/>
          </a:prstGeom>
          <a:solidFill>
            <a:srgbClr val="da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9" descr="6835_powerpoint_v2"/>
          <p:cNvPicPr/>
          <p:nvPr/>
        </p:nvPicPr>
        <p:blipFill>
          <a:blip r:embed="rId4"/>
          <a:stretch/>
        </p:blipFill>
        <p:spPr>
          <a:xfrm>
            <a:off x="0" y="0"/>
            <a:ext cx="9155160" cy="1065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4" descr="FOED Logo"/>
          <p:cNvPicPr/>
          <p:nvPr/>
        </p:nvPicPr>
        <p:blipFill>
          <a:blip r:embed="rId5"/>
          <a:stretch/>
        </p:blipFill>
        <p:spPr>
          <a:xfrm>
            <a:off x="7315200" y="5894280"/>
            <a:ext cx="1447920" cy="4701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5" descr="TeamSolutions_Whaka_V_RGB"/>
          <p:cNvPicPr/>
          <p:nvPr/>
        </p:nvPicPr>
        <p:blipFill>
          <a:blip r:embed="rId6"/>
          <a:stretch/>
        </p:blipFill>
        <p:spPr>
          <a:xfrm>
            <a:off x="7238880" y="0"/>
            <a:ext cx="1676520" cy="116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3"/>
          <a:stretch/>
        </p:blipFill>
        <p:spPr>
          <a:xfrm>
            <a:off x="5497560" y="5319720"/>
            <a:ext cx="3646440" cy="16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" descr="FOED Logo"/>
          <p:cNvPicPr/>
          <p:nvPr/>
        </p:nvPicPr>
        <p:blipFill>
          <a:blip r:embed="rId4"/>
          <a:stretch/>
        </p:blipFill>
        <p:spPr>
          <a:xfrm>
            <a:off x="7010280" y="5943600"/>
            <a:ext cx="1859040" cy="604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6"/>
          <a:stretch/>
        </p:blipFill>
        <p:spPr>
          <a:xfrm>
            <a:off x="5497560" y="5319720"/>
            <a:ext cx="3646440" cy="16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FOED Logo"/>
          <p:cNvPicPr/>
          <p:nvPr/>
        </p:nvPicPr>
        <p:blipFill>
          <a:blip r:embed="rId7"/>
          <a:stretch/>
        </p:blipFill>
        <p:spPr>
          <a:xfrm>
            <a:off x="7010280" y="5943600"/>
            <a:ext cx="1859040" cy="604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0948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lanning and Developing Units of Work for Students with Special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 thematic/ genre based approac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743200" y="1981080"/>
            <a:ext cx="30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075120" y="236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685800" y="2209680"/>
            <a:ext cx="416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2819520" y="2435400"/>
            <a:ext cx="405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269568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8405640" y="633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8264520" y="390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Key Messages: Scaffolding learning Effective teaching and learning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the nature and purpose of the task clear - share learning goals/language goa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 task into manageable chunks, give enough time to complete t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explicit the way a text 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 Report - language features/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opportunities to co-construct a new text/complete a new task co-operative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opportunities for pract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rning is more effective when a link is made between a familiar topic or context and an unfamiliar 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essons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include repeated but varied opportunities to engage with the same mater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rners need to experience a variety of interactions in the lessons - whole class, structured group, pairs and independent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rience based learning promotes understanding and engagement. Tap into prior knowledg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y Vocabulary/academic vocabulary needs to be tau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Verdana"/>
              </a:rPr>
              <a:t>Discuss these comments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94920" y="1915920"/>
            <a:ext cx="8209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If I use group work I will have less control of my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This is maths - it has nothing to do with language. As soon as we take the language out we’ll be able to do our job proper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don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 understand what the language focus of my lessons would b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pair or group work students might be passing on wrong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 got a very full curriculum. I can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 tack anything else on to what I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 do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udents need specific help wit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ist vocabul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to read and understand the tex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to communica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to communicate knowledge and ideas in appropriate w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to listen and read crit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NZC 2001:1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enre/text types/ language functions used across the curricul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4360" y="1413000"/>
          <a:ext cx="7200720" cy="3960720"/>
        </p:xfrm>
        <a:graphic>
          <a:graphicData uri="http://schemas.openxmlformats.org/drawingml/2006/table">
            <a:tbl>
              <a:tblPr/>
              <a:tblGrid>
                <a:gridCol w="1199880"/>
                <a:gridCol w="1200240"/>
                <a:gridCol w="1200240"/>
                <a:gridCol w="1200240"/>
                <a:gridCol w="1199880"/>
                <a:gridCol w="1200240"/>
              </a:tblGrid>
              <a:tr h="59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GL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C 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.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UN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7 language functions/text type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un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u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gotia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ruc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fferent text type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s are expected to write for a wide variety of purposes and to use different text types in different subje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be successful in their writing students need to understand the specific criteria for the tas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riting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s who limit students’ opportunities to write complex texts contribute to the ‘Mathew Effect’ where ‘the rich get richer and the poor get poorer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poken language v’s written language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1280" y="184464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ech is usually more informal and repeti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ople often speak in phrases rather than complete sent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akers can use gestures, tone and facial expressions to help express themsel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akers can get immediate feedback from their audience about the effectiveness of their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Content Placeholder 3" descr=""/>
          <p:cNvPicPr/>
          <p:nvPr/>
        </p:nvPicPr>
        <p:blipFill>
          <a:blip r:embed="rId1"/>
          <a:stretch/>
        </p:blipFill>
        <p:spPr>
          <a:xfrm>
            <a:off x="536400" y="1195560"/>
            <a:ext cx="79250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ing is complex because teachers need to get into the minds of all the students  they teach – minds that are different in knowledge, interest and confidence. And they seldom teach fewer than 30 at a time…it is our responsibility to communicate this complexity to our students and to prepare them as best we can to navigate it with compassion, wisdom, knowledge and skill.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aking </a:t>
            </a:r>
            <a:r>
              <a:rPr b="1" lang="en-AU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eacher talk</a:t>
            </a:r>
            <a:r>
              <a:rPr b="1" lang="en-AU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more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mprehensible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9640" y="177300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ffolding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 language simple yet challenge the stud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thinking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eak up talk into chunks with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inforce the oral with written prompts and visual c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rategies to check regularly for comprehe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2222640" y="600696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valuation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a piece of paper wr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 learned to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 need to do in my department (shar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ters, W.W. (1912). Methods of Teaching. Row, Peterson &amp; Company: Chica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6212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ing is complex because teachers need to get into the minds of all the students  they teach – minds that are different in knowledge, interest and confidence. And they seldom teach fewer than 30 at a time…it is our responsibility to communicate this complexity to our students and to prepare them as best we can to navigate it with compassion, wisdom, knowledge and skill.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oc Prof Graeme Aitken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an, Faculty of Edu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687160" y="6143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earning Intention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1760" y="1904760"/>
            <a:ext cx="7770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ill incorporate Effective Pedagogy &amp; the NZC as a change of emphasis from assessment driven unit pla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ill co construct a thematic and genre approa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ill consider how AS and US sit together in a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ill incorporate a writing initiative in our planning based on asTTle wri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8687160" y="6143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9907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ffective Pedagog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7640" y="227628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tiv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tructured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 the headings diagrammatically on the A3 paper then lis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ach of these characteristics can be represented in your classroo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978360" y="3552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aring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can you use these resources/tools to help you to know your learners and their needs?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other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Z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L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TT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25520" y="-142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teracy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bility to communicate effectively in our everyday wor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side of scho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ide scho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teracy across the curriculum: National Examiners</a:t>
            </a:r>
            <a:r>
              <a:rPr b="1" lang="ja-JP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Repor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3733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lications for teaching &amp;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teracy across the curriculum: National Examiners</a:t>
            </a:r>
            <a:r>
              <a:rPr b="1" lang="en-AU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Repor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4360" y="1773000"/>
            <a:ext cx="7920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ilure to read the ques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of dated/incorrect vocabulary/terminolo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ability to answer briefly: vague/repetitive/wor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ed more practice at paragraph writing and expressing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as/concepts clear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ability to give full explanations when asked for specific deta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ed more familiarity with instructional terminolo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lling/proofrea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ed practice linking concepts/definitions to real examp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ding of curriculum material needs more accuracy/care/pract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ning and structure in answers and essays is nee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ing inappropriate style/sla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21:46:03Z</dcterms:created>
  <dc:creator>Studio 4</dc:creator>
  <dc:description/>
  <dc:language>en-US</dc:language>
  <cp:lastModifiedBy>An Employee of</cp:lastModifiedBy>
  <cp:lastPrinted>2012-07-04T03:16:03Z</cp:lastPrinted>
  <dcterms:modified xsi:type="dcterms:W3CDTF">2012-07-04T03:18:10Z</dcterms:modified>
  <cp:revision>125</cp:revision>
  <dc:subject/>
  <dc:title>PowerPoint Presentation</dc:title>
</cp:coreProperties>
</file>